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E1B-494E-4891-A78A-0C7D9850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0A1-B291-462B-A0EF-76AC9F1D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A56-8FA1-412C-8A2E-FF86EEC9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453-4CBB-41A9-85D2-E5E873E0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636-8C3D-48EE-A671-78CBBB63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31B-1904-43D7-A6B8-AB0739E1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8B2-7B6B-4173-8D01-1726B48D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F548-BAA8-4C2D-B9AD-4663D593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74EC-B913-4362-AFF5-60133455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592-88A0-47F1-B9D8-15E6C54F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7D80-7486-4F19-80C1-9D11F1E8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57D-FC9B-4247-9EB2-E82B3BA7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E327-D30E-424A-AD86-84CE1CB1E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49358LYOhlaxbdf_ph" descr=""/>
          <p:cNvPicPr/>
          <p:nvPr/>
        </p:nvPicPr>
        <p:blipFill>
          <a:blip r:embed="rId1"/>
          <a:stretch/>
        </p:blipFill>
        <p:spPr>
          <a:xfrm>
            <a:off x="-190512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0"/>
            <a:ext cx="3200400" cy="9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بيتَ لحمَ لقد سما  قدرٌ لكِ حتى السّ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كِ الإله تَجَسَّما    متأنِّساً من مَري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(لازمة) المجدُ لله في العُ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09911fsnmICxink_ph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10080" y="457200"/>
            <a:ext cx="3429000" cy="60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عنه النبيُّ تكلّمَ  حقاً كما قد أُلهِ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تمَّ فيهِ اليومَ ما   قد قالَه متَرَنِّم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(لازمة) 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مجدُ لله في العُلى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13373bYanumaqWZ_ph" descr=""/>
          <p:cNvPicPr/>
          <p:nvPr/>
        </p:nvPicPr>
        <p:blipFill>
          <a:blip r:embed="rId1"/>
          <a:stretch/>
        </p:blipFill>
        <p:spPr>
          <a:xfrm>
            <a:off x="0" y="0"/>
            <a:ext cx="532764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380880"/>
            <a:ext cx="3124080" cy="79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ذا ابنُ مريمَ قد ظَهَرْ  ربُّ الملائكِ والبَش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َن رابَهُ شكٌّ كَفَرْ    لا بُدَّ أن يتندَّ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(لازمة)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جدُ لله في العُلى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BRSO032" descr=""/>
          <p:cNvPicPr/>
          <p:nvPr/>
        </p:nvPicPr>
        <p:blipFill>
          <a:blip r:embed="rId1"/>
          <a:stretch/>
        </p:blipFill>
        <p:spPr>
          <a:xfrm>
            <a:off x="0" y="0"/>
            <a:ext cx="5572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680" y="304920"/>
            <a:ext cx="3505320" cy="83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وَ مَن به تحيا النفوسْ   أو لاسمِهِ تُحنى الرؤوس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إليهِ قد سَارَ المَجوسْ     والنجمُ كان المُعْلِما 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(لازمة) المجدُ لله في العُ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3872129HtdMxB_ph" descr=""/>
          <p:cNvPicPr/>
          <p:nvPr/>
        </p:nvPicPr>
        <p:blipFill>
          <a:blip r:embed="rId2"/>
          <a:stretch/>
        </p:blipFill>
        <p:spPr>
          <a:xfrm>
            <a:off x="0" y="0"/>
            <a:ext cx="5532480" cy="7467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867280" y="533520"/>
            <a:ext cx="2895840" cy="10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 طفلُ نسألُك الرِّضى    فاغفرْ لنا ما قد مض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ُلطُفْ بنا يوم القضا      وَقِنا عذابَ جُهَّنَّم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(لازمة) المجدُ لله في العُ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9:04:38Z</dcterms:created>
  <dc:creator>SUZANNE.MD</dc:creator>
  <dc:description/>
  <dc:language>en-US</dc:language>
  <cp:lastModifiedBy>USER</cp:lastModifiedBy>
  <dcterms:modified xsi:type="dcterms:W3CDTF">2002-12-23T20:05:16Z</dcterms:modified>
  <cp:revision>1</cp:revision>
  <dc:subject/>
  <dc:title>PowerPoint Presentation</dc:title>
</cp:coreProperties>
</file>